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120" y="739800"/>
            <a:ext cx="65689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1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1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9838-AE9F-41CE-82BA-5D3D471917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2D6C-F706-4F85-908D-A4F942D2B3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A895-A00B-4DBB-B8C3-D0BE51DF8A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33D3-5372-4914-B489-6F48C81E933C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265-C041-4D01-91AE-BB30698663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548-9786-4D2E-A70B-E41B72F6E9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D4F-E7F8-444F-A32D-B7DFCF4760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DBA-2655-46FF-87BC-43FD0AAE9C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690-ECA7-4479-996B-5BFC271F82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C24-D7E3-4D0F-8FB0-FB885009B8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CAD-5E58-4452-B40A-BD44272DB0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7F6-F01C-4193-AC8F-095A93701C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4D7-6D51-4B40-BD1D-A9BFE94E0C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6E5-43B3-4315-9708-7CFDE64D44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250-EEE0-49B7-B7B6-7700DAD8CE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B86-2CAF-4891-A343-6FB80E5DBC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CE05D-0D8F-49B5-BF8D-883D2B90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EB20C-6EA9-4474-AA1D-CC441B7F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7D928-6DF3-4711-AE80-7504F96E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12AF7-D765-407D-8C86-56D376C7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C0EF9-C00C-4A28-81A9-09A87E65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40B08-E3C7-4792-9DE6-9AB43771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17EF5-C2B6-4F5E-BFB7-D113CCDA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19E36-2E0D-4347-995A-4CA367FE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2B96E-DB3C-4219-A9F5-BDB583EA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AE1F8-2EC3-4525-BA3F-C72EAF03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E7E5A-A76F-4601-BCCF-CFE6FC9D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57FAB-DC72-43C1-998C-C6BD02DD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9C6E4E-23DD-4573-A4CC-A17D2AF800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544CAE-69DA-4FDE-807A-3F01F6CD97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D4497-11CF-4CF9-A95F-2F72877C0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C6610B-5510-4C70-8C64-C546820C9F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E7869B-E04E-43C6-AB6A-EE1CB3BCCA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A21B0-91BA-4D2F-B67F-7515F413D3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A203C-C224-4AB5-A521-B2D442ADE3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4F0757-95C8-478E-A763-2B0D9C25EA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B8D57E-EFAB-432A-9EC3-176B85DD1D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B662EB-72EC-42D2-911F-0371D6EC66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E1C169-7212-4F54-BD31-0BE171AE9E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828307-A673-4B73-9C08-A6AB9CE93D6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164FF-5A8C-453D-9D16-167DD3BB3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59D4A-8E98-423B-9681-02A57B8D7FD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074FE-F4C9-4C5F-AD5A-31C61A29C0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A2589-0AF3-4D63-ADF9-2BE605FEE9D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B0537-45B3-43AA-B68B-549B9A973B3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1A42E-6D41-49F1-8D17-2A985386DA9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13978-789B-4DBD-B2DB-C58B651A744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13936-A9E1-42EC-8D63-1BFA74D8F81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388C9-4D68-43D0-90C1-34AB4C67E36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730A7-FC60-4426-8CBA-727B7EB3A42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1C21E-069B-44AF-8E14-28C6A0D18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3D6E8-0386-4E0B-87D1-4892A4B73FA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41EE79-9A65-4F5C-99BB-BF503C1C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3DA1C-128F-4670-86D6-82FA755B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AE0909-5399-4D4B-86BB-5BB644BC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201552-F08F-4CE3-B7CD-ED763EC2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6EE1A3-21B5-4871-8131-F7A2FAD6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7BC0F-E14B-47AA-836C-18D8FFA3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878E3-9328-4B41-8EDC-2A00905E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12E7A-0CD7-4C19-A68A-9C3FB0B2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F9D2D0-4FA5-4B36-BAA4-EE4894A0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D8BD81-A0FE-4629-BE26-330BE56B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6CD11-DEFE-473A-A675-86348AED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DFEBA9-9273-4746-8620-3AFC59B0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FFB2-73DA-40BC-AB61-77B7AE5712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5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ACE9-59B1-48BC-B1D3-D15EF1BC24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D928-CEE5-4D2F-86A6-89476D714E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50CA-8EA8-4ECC-A38C-DFA1A4EC89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4400" y="3476520"/>
            <a:ext cx="12206520" cy="33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9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0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1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266F-C2F0-4059-A8DE-E9E7728A2C6B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07520" y="2641320"/>
            <a:ext cx="8844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Hospital Expansion Update 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NHS GJNUH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29 September 2022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1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685"/>
                </a:solidFill>
                <a:latin typeface="Tw Cen MT"/>
              </a:rPr>
              <a:t>Phase 1 Eye Centr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perational from Nov 20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ngoing defects monitoring continue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Meetings re possible solutions held with the PSCP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Design Engineer developing option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Scotland Assure to review design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lution will be taken to the Water Safety &amp; PCIC Groups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crease in patient numbers and double clinics now restrictions have eased.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640" y="250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9640" y="1767960"/>
            <a:ext cx="815328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Assure Stage 4 Construction Review now conclud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itial report issued to NHS GJ and PSCP for review and comment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Reduction in recommendations and actions from Stage 3 review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Engagement ongoing with SG in relation to scheduling next Gateway Review now NHS Assure has been complet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8480" y="183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8480" y="1682640"/>
            <a:ext cx="8153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Works continue on site to programme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ire taping &amp; finishing taping L3, L1 &amp; L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Lift installation (6 of 8 complete) progressing lifts 1&amp;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loor finishes in theatres completed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HU deliveries, Electrical transformer delivered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Canopy installation in theatre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Roof access ladder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ll level 2 modules now onsite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Progressing with external works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1"/>
          <a:stretch/>
        </p:blipFill>
        <p:spPr>
          <a:xfrm>
            <a:off x="817560" y="1957320"/>
            <a:ext cx="4403880" cy="32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742080" y="1874880"/>
            <a:ext cx="4635360" cy="33638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1386000" y="55767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orridor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245360" y="5576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anopie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tretch/>
        </p:blipFill>
        <p:spPr>
          <a:xfrm>
            <a:off x="1225440" y="1589040"/>
            <a:ext cx="3475080" cy="4495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616800" y="1589040"/>
            <a:ext cx="4637160" cy="4495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555920" y="6224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rialling sanitary ware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7213680" y="62546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Surgical Admission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Breakthrough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3 completed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2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AI SCRIBE complet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s diversions and isolations commenc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 installation planned early Sept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2 Junction 1, 2 and 3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s install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 diversions and isolations commenc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Refurbishment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rtho OPD (WTO1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ft strip of area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Theatre Admin (WTO 3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PACU and theatre refurbishment (WTO 2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urvey work commenc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673280" y="-61920"/>
            <a:ext cx="8688240" cy="6904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5181480" y="60480"/>
            <a:ext cx="3187800" cy="209844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440080" y="5703840"/>
            <a:ext cx="2081160" cy="11016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659560" y="3247920"/>
            <a:ext cx="384120" cy="314280"/>
          </a:xfrm>
          <a:prstGeom prst="rect">
            <a:avLst/>
          </a:prstGeom>
          <a:solidFill>
            <a:srgbClr val="7f7f7f">
              <a:alpha val="46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018120" y="4530600"/>
            <a:ext cx="260280" cy="64476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835520" y="4113360"/>
            <a:ext cx="901800" cy="11268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745480" y="5097600"/>
            <a:ext cx="1368360" cy="38412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6634080" y="5526000"/>
            <a:ext cx="397080" cy="12794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640800" y="5481720"/>
            <a:ext cx="471600" cy="10778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718560" y="3745080"/>
            <a:ext cx="897120" cy="31248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ost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 flipH="1">
            <a:off x="9717840" y="3083040"/>
            <a:ext cx="809640" cy="312480"/>
          </a:xfrm>
          <a:prstGeom prst="rect">
            <a:avLst/>
          </a:prstGeom>
          <a:solidFill>
            <a:srgbClr val="92d050">
              <a:alpha val="50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re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5251320" y="98280"/>
            <a:ext cx="227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Provision of additional PACU bed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346360" y="2992320"/>
            <a:ext cx="133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Widen door acces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855760" y="4359240"/>
            <a:ext cx="848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Trolley bay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4643280" y="4113360"/>
            <a:ext cx="128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Create lay up prep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2516040" y="5703840"/>
            <a:ext cx="2038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Theatre 9 refurb 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4921920" y="37339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6329160" y="37465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8787960" y="3116160"/>
            <a:ext cx="583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8897760" y="4498920"/>
            <a:ext cx="59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7170840" y="624528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829720" y="62103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4" name="TextBox 23"/>
          <p:cNvSpPr/>
          <p:nvPr/>
        </p:nvSpPr>
        <p:spPr>
          <a:xfrm>
            <a:off x="2516040" y="41450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3992400" y="34545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3992400" y="46688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7" name="TextBox 26"/>
          <p:cNvSpPr/>
          <p:nvPr/>
        </p:nvSpPr>
        <p:spPr>
          <a:xfrm>
            <a:off x="4643280" y="6210360"/>
            <a:ext cx="6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olorect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8" name="TextBox 27"/>
          <p:cNvSpPr/>
          <p:nvPr/>
        </p:nvSpPr>
        <p:spPr>
          <a:xfrm>
            <a:off x="7319880" y="35179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7319880" y="47545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0" name="TextBox 29"/>
          <p:cNvSpPr/>
          <p:nvPr/>
        </p:nvSpPr>
        <p:spPr>
          <a:xfrm>
            <a:off x="5880240" y="6126120"/>
            <a:ext cx="614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1" name="TextBox 30"/>
          <p:cNvSpPr/>
          <p:nvPr/>
        </p:nvSpPr>
        <p:spPr>
          <a:xfrm>
            <a:off x="6510240" y="5519880"/>
            <a:ext cx="102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</a:t>
            </a: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2" name="TextBox 31"/>
          <p:cNvSpPr/>
          <p:nvPr/>
        </p:nvSpPr>
        <p:spPr>
          <a:xfrm>
            <a:off x="9375840" y="5103720"/>
            <a:ext cx="1538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 new stairwell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4562640" y="5703840"/>
            <a:ext cx="901440" cy="1127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3693960" y="2144880"/>
            <a:ext cx="4675320" cy="90000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8680320" y="4113360"/>
            <a:ext cx="90180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685360" y="5697360"/>
            <a:ext cx="901440" cy="106524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7072200" y="5742000"/>
            <a:ext cx="901800" cy="105408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667480" y="5789520"/>
            <a:ext cx="90144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9731520" y="4278240"/>
            <a:ext cx="896760" cy="312840"/>
          </a:xfrm>
          <a:prstGeom prst="rect">
            <a:avLst/>
          </a:prstGeom>
          <a:solidFill>
            <a:srgbClr val="00a2e2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Disruption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238800" y="3218040"/>
            <a:ext cx="984240" cy="86652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829040" y="3240000"/>
            <a:ext cx="784440" cy="87336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718560" y="4729320"/>
            <a:ext cx="897120" cy="312480"/>
          </a:xfrm>
          <a:prstGeom prst="rect">
            <a:avLst/>
          </a:prstGeom>
          <a:solidFill>
            <a:srgbClr val="ffc000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? Th Move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Alison Mackay</cp:lastModifiedBy>
  <cp:lastPrinted>2022-08-31T13:23:00Z</cp:lastPrinted>
  <dcterms:modified xsi:type="dcterms:W3CDTF">2022-09-14T13:06:35Z</dcterms:modified>
  <cp:revision>225</cp:revision>
  <dc:subject/>
  <dc:title>West of Scotland  Cardio-Thoracic Surgery Centre  Engagement Event</dc:title>
</cp:coreProperties>
</file>